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023-A0BB-478C-A6C1-286CF887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A38-9D2D-40FF-BC8E-B56E194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F44-63FF-4FAD-9AA3-3E9D800E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CE1-0CC2-4D35-82B7-3BB81E9F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D59-377B-472B-B8CD-26BDAB71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E72-2A84-49A0-8256-AF02CF77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D1F-DF94-4CF4-AC6C-AD092A90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2BF-05F9-4D9C-AA60-81CCFCF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4F4-A6B7-4CD2-9A99-5415A9DA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E6A-9C38-46C6-B7BA-362149E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3F5-38FF-4563-950F-2D1F938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ABE-51EB-4EA6-A84E-B9B967F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698-4B54-4305-8381-EB49F6B773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ity_street_1"/>
          <p:cNvPicPr/>
          <p:nvPr/>
        </p:nvPicPr>
        <p:blipFill>
          <a:blip r:embed="rId1"/>
          <a:stretch/>
        </p:blipFill>
        <p:spPr>
          <a:xfrm>
            <a:off x="5435640" y="3645000"/>
            <a:ext cx="3371760" cy="289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 préfères la ville ou la campag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ountry_road_2"/>
          <p:cNvPicPr/>
          <p:nvPr/>
        </p:nvPicPr>
        <p:blipFill>
          <a:blip r:embed="rId2"/>
          <a:stretch/>
        </p:blipFill>
        <p:spPr>
          <a:xfrm>
            <a:off x="468360" y="333360"/>
            <a:ext cx="4667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e n’aime pas la campagne, parce 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vie est trop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s’ennuie t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Ça sent trop mauv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trop d’insec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 pas assez de dis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 pas assez de choses à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 transports publics ne sont pas assez fréqu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 pas assez d’emploi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00720" y="83664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fe is too qu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get too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smells too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too many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n’t enough dis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n’t enough things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ublic transport is not frequent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n’t enough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En vil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pollution qu’à la campag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plus pollu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mo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br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plus de choses à faire pour les jeu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plus dangere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vie est plus stress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plus anim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00720" y="98100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more pollution than in the country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more poll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or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’s more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ore things to do for young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more dange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fe is more str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more l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À la campag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’activités qu’en 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choses à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maga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problèmes de lo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moins de crimin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a moins de risques d’être agres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moins bruy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0720" y="980640"/>
            <a:ext cx="46432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activities than in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things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less hous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’s less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’re less at risk of being assaul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’s less no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7:10:48Z</dcterms:created>
  <dc:creator>gennevicst</dc:creator>
  <dc:description/>
  <dc:language>en-US</dc:language>
  <cp:lastModifiedBy>Nicolas</cp:lastModifiedBy>
  <dcterms:modified xsi:type="dcterms:W3CDTF">2011-01-31T23:30:28Z</dcterms:modified>
  <cp:revision>10</cp:revision>
  <dc:subject/>
  <dc:title>Tu préfères la ville ou la campagne?</dc:title>
</cp:coreProperties>
</file>